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3B3-50E6-416B-803F-09FBDE5D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66A-5EB3-4E86-B182-DFB7893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23E8-4D79-46D3-B173-36096CAD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93BAC-1816-491E-8B83-A4A29D5A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5C6C-C881-4FE3-AF25-04EA671A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CC0CB-C0B3-4AAA-87B3-67D38C1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9592-D1D4-4EE4-B94B-B63C2C66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A0546-ECEA-4BAE-BCC5-1EEB55D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DB567-CBD6-4A81-9C56-E175139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999F4-AE24-4BE7-9B9A-660EC1A1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283D7-7D52-41E7-BD09-E1C637D2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AC6A8-116D-4E4E-9C4D-EA2C3D0E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4F3-7719-46FA-86E5-FB346860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C52CB-6539-4214-864B-5F399199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5C9FE-1FF6-45B3-9017-ECB1CA5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E071B-9339-47C8-864C-0ABC749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5BF66-CB5E-4DCB-B9CA-8B89FF7A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9A2A8-148E-43CB-961B-BB5FE22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F114B-2B2E-474F-8BDE-9C2A14A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EE12A-DECB-4ECF-857E-F4278D4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94E17-EA4E-481A-BCCC-AAA5E1E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9B696-87F4-483A-941B-D875ED7D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B701-F934-45C0-94F1-9A43DCCD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DC5-26B7-4A3E-BEE1-82CA379D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3C716-895D-4AFB-9CD9-D14414ED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FA6AB-52E1-4E3A-B9FC-4CCBA46B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97AAD-7920-46A9-ACD7-55D983C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010A4-73EB-4D63-A441-B012F8E1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09E89-4B23-427F-98AB-890BA26A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520C9-89B3-42E8-8E33-436BE44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74DAA-0E0F-431F-BC6E-50A1BAD7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3CCD-E432-4C27-812E-085A23B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5612-412A-4FB6-BCCC-C1F6B83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EB09-EC23-4467-9369-C70EC90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02B-0F33-413C-A001-20F7BAFE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A299-6320-40CF-A92F-8C2CB27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EDB27-576B-4A5D-A7FF-83FD974C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AF853-3BEE-4223-A382-BECFE2D9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97283-58DB-477A-81BF-6BC49134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4CF4-F2A4-45F8-B386-C92267D7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2FA8C-E5CA-42D9-A90F-3636F0B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7E47E-D44A-4E9D-AEAB-FCE99AF3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FD29B-9B6A-4093-B070-1C2E0D5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32B8B-5F83-47F5-9F52-B4A4502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584F0-A004-4D23-9FEE-A1D2B98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6D72-C66D-4B04-97E4-0FC0CDAC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A1FFF-A120-4EAC-8E3B-A368BF5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6855C-4EC1-4C6B-87AF-FE61AF19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EB4EA-54F9-4DE8-BC9A-063CE8D2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26282-51F8-470F-9DD1-7C5E1843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8FD91-12B6-4285-867B-3FE7138B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DF408-A668-4D7A-95B6-236A77B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6C094-162D-4F2D-A6F2-36C2700B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F5660-BAA9-4CD3-B7C3-7B8EBD91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68E6C-B8E9-4663-ABE2-3614EC2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ABC0E-D269-4B18-AF47-7AE57A0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806A-3ED8-442E-B426-577B426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63F0A-7C96-45B1-94F0-9682DF8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713E9-1424-4FE1-9F91-0A3C3427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1549B-F29B-4FB5-A1FB-61E1124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C1A38-8E98-4FDA-B21A-63BFDDD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5AF7D-877E-4F05-9A4E-A4FFFB5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6D60F-A521-48BD-919F-646D0AA2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9BCCA-F19D-48DA-9913-9B6AF693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E28FA-3DE0-4AA0-9B26-DB5CF1C3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34F88-909B-4695-8D28-81588A9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719C0-E5B8-4FAD-8BD8-97A7F1B1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E62A-BAA6-4777-B08A-18F30DA4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25EE1-9E57-440E-B288-5FAEC96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116DB-A474-45F8-9347-12DB60D5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B1FE4-84B4-4110-9F15-AC2D76DD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FEADC-3A17-46D9-B031-E6D530F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470956-812B-49DF-8CD3-0B402D81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85A57-4BB3-47CA-85A6-0B28370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6D452-127C-4E7E-A213-FB71466C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BDBA1-2D6B-4866-8844-02011A8E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752AA-8A26-429E-8CD5-3A39D32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EE8DF-7B8C-4F8E-892E-B8901785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739-8AF4-4789-BAD3-87FA7278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207AF-226D-47C9-94AE-4812CCF3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C599C-A8EE-4FA4-A562-4F0BB63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70ADE-0B42-42A1-8C09-F895C2C4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12E2B-4551-4934-937F-8BB4018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4D3AE-3E07-454B-965D-7527E88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B7C40-43B1-4734-959E-0CA8B87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0A6CB-0702-4DF0-BF6D-7AD3780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3DEC6-C804-4F68-8C90-B9B1F437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19940-733C-451A-A3D8-ABB424ED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B806E-42E6-486F-B17B-8B127653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E99-DD84-45C4-9472-C1AF817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E3FFA-BD3C-459C-9ABB-9DC40DE5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A6C96-38E0-4DFD-B156-90311D7B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39729-7E87-4A5C-9B39-8563368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E7A2E-4F72-47D4-AD52-C137E9C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4EA25-9DF1-47FE-9D68-97394A9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34458-2D48-48C5-90E7-B5AF7A17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9BD98-3B76-46DB-9B71-CC410A0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47E02-C42D-4F98-AB85-068A3F0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B9279-1CC7-493E-9321-029E2F3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40A48-6EFB-413A-9998-D3849B5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4CE-11D9-463C-AFCA-2DDA0BC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6594F-E7D1-41EC-AA4C-8CC9FD86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9E0CC-1FE1-455A-90F3-4FE7A393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3D8D4-395E-49CF-85D0-10AA9724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D20CBC-1222-432C-A245-F6D59BB0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55119-DBF2-4D95-8D78-309258E4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0540E-2994-49A0-9E69-7B3CB46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9C6EC-5BFA-43D3-9E3F-C146FFB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6FD6C-47A6-4AFB-99D6-F6E419F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5ADC8-97D4-4048-A3E8-322E101F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B2968-CF0F-4A11-BDE4-CB4D4C5A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241-A8D4-461F-986C-870D83E9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2A30-5473-445F-B994-63C328D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F058F-6B50-4C4C-BC6A-B41818D8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E7D03-69C7-4D82-9D5C-B4DCBB54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0814C-E836-4935-AC20-CB10391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DA5BB-9985-4AB0-8F97-87A7166C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5DD4E-1076-48EB-83F4-DD44EE22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D9173-2AE7-4E22-9F57-984A2306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BE725-C8D5-4757-9D9E-B4E760DB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30ECC-C6A5-4CAE-83B7-4C577D5D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79BAB-A404-4EB9-94E5-743EB374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14108B-4168-4D48-81AB-4322ECA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4143-C1F1-4A10-9302-19CBFD4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1E554-3A0C-469A-8F5B-0D73608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9D7E8-D1D0-4842-ACB6-C6F23EB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0F15F-E947-4196-8C21-E0DC507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B1748-0E9F-40AD-997C-24A8A41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4BC99-1BCF-40E3-8555-1073E8D8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447E1-59CC-4ACD-A9C5-99F15576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8D81C-B697-46A2-9BF7-B23EE5D1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30A28-B6E8-4E0E-8EF9-E207F17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43D3D-9F9A-4690-9084-585DAA2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6D34E-0E6E-416E-99C8-096D42C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CC73-5221-4CD9-AEFA-F21ECA1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A117F-0495-4BDE-BA45-44315B18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490A4-CABB-4B89-BD9F-2D97D3E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F49F5-0D21-42DD-89C9-3FA9588E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AE61B-AF36-4ED9-A2F6-4909070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AF252B-52B7-4B9D-99D6-09DE07B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BA406-0209-46D7-8C8C-6DAE235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6C6200-C015-4415-AFBE-09003EFE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84A39-6736-45C9-8870-3DD9B4C4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80609-F36E-4816-88F4-868D23D5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5FE28-A0B8-4551-8906-195250CD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8134-2D73-4242-AA42-EB6FB288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0154F-4EAF-470E-A3A6-F42A0E37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C9C49-174B-4FBB-AABF-49A34079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C9ADF-FD56-43D2-9BBD-AE368B7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DADFC-E175-4FD9-B73A-BA2A89BD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81CAD-E28C-4962-A17E-29D84CD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BBB50-9122-46DE-A4AC-D9BD70EB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AA11D-870C-43AB-ABBC-2E2E3ED5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D204D-CCA7-446C-8E9A-73B28A16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E05C83-675D-464D-BD53-F94570EA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86FDB-2A95-4D17-A786-3585C64C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468-7690-40CE-BC21-DD914F69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5933E-D69E-4033-9267-08B7C77D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7F430-C5F9-4D97-9A9C-DABB9561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F8FD1-E910-4306-A55E-B43120F2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1083A-300E-49AC-BF0C-C4D8BF72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7B41B-0966-45A8-B9B6-84034EE7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B905C-B873-4FDE-8FF7-FFD249F3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89A1F-11F2-42D2-835D-BA7A361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7FA7E-BF6C-48FB-A57F-9480C96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7386B-6E70-4961-8B3F-8B0A509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ABE2F-6539-4350-B13D-97C60A79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4B09-AB20-4538-8843-BBB315E0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A77B9-F115-4C50-AB26-5FEB55FE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8833C-DA4D-445A-9D6D-72E61210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A796C-7E63-4875-B14A-8FD1B3CE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DAA67D-18B9-47DC-89AE-F60A8052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D6FC96-680A-4F11-8C08-0A2C78E5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6A710D-27E7-466F-9F0C-3330679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4689A5-1081-44DE-9988-E3A4D253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DA2C4-6FA1-470A-805F-4470176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D3417-81E1-40CD-9267-19D4DFC0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95F2FA-E7E9-4761-8EDE-B19C1E3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DE9A-5A05-41A3-A2A1-D4875D87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07915-6A29-4A80-8E29-D1C9BC1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1BC57-CCD7-40F2-95D6-4A32F07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7D47A-D66E-4DFA-8D88-4A53EDF2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5BE5F-DBDC-4180-B2ED-A5335059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B935E2-F808-499F-B6A1-EE114B53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31BE7-ADB7-47E2-8C07-7624322A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677DE4-B452-4560-8F2B-B40FFD63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F48C2-869B-4114-A7A5-4BD825D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984509-AB0C-4788-9602-74A1A4AB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F37E9C-D86F-4C78-9E12-2F88472D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AD70-22E3-4C2F-9345-E8B2BDB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07117-93C0-4FE0-94E1-BC512A9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F229F4-21BB-4BAF-8B59-9F0A50C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D6FAD-C142-4AB7-B722-E8CC8C6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B39EB8-DBC6-4905-91DF-3840737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DBD5B2-9BB2-473F-8808-33CD1CCA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03FCF2-281A-49A1-BF05-A85CC467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7BDFF4-D68E-4756-A423-339A678C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FD52C0-A62E-4EA1-AC68-A8F87525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A18767-A65D-4196-B75C-CE2EC9DE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92D9D3-24B5-4922-956F-37FE21C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EB52-491E-47BB-B54E-D5E27E4F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504986-A5B8-47A3-9A67-BCB2F3EB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595B3B-B61E-43AD-B98B-52EE7326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AF00F6-ADA2-4952-8C6B-48553980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B82E9E-0628-4D3D-8B32-2256720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00AD6-6CF6-48E5-807D-07C433E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DA578E-054A-46E0-BA3A-79A56107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CE78B-69BF-40A7-B3E4-554345B9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FE7A98-81C8-4C18-810A-5757691A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502C5-0D5C-42D6-87F4-C73E28B6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423DF9-B2CE-4AE2-8B93-94E92CAA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80D3-8CF9-434C-8408-4AD8004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1A6E2F-2E98-44F5-A975-DBF3852C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E4C303-AA8E-4039-9C74-F170EE91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28EEEA-9769-42F0-9495-5756C4B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F0AD89-1A4E-4B8B-901D-034CC0E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2F5D72-1591-41CA-B711-D0905EF7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F3520-1E2D-4AAE-AD4C-7BBCAC3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5BBE90-5C19-40A2-8075-77C21DF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DACD54-D137-4E7B-A4DC-ABD084E0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E5C352-4E58-465E-9D92-7300BD08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641EF8-FA26-4397-936B-4D26E40E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6E9-CABD-420A-A041-56E4C42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8F6D-8745-4C97-B1A6-D2B2600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6703E0-CACB-40FD-A296-B624163F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09E706-633D-45B2-89B1-299ED706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CE1977-E6C6-4FE1-B4D4-CC7EF1CC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CC4D1B-3413-4E01-850A-9D9ADE2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12BED9-F41D-41E1-9060-EFB2455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62D677-E379-4E38-AB89-58025E34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75BEB1-70C6-4B72-8565-80CBA16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0FDD68-538A-4029-9E91-AC688D0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EFEB7C-AB5F-4241-BA11-55DAD57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945BB5-02C3-460F-B92D-67D063D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1237-3DD5-441D-8CF8-35BDDAA9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2BAFFA-EE71-4CC1-B894-30AF17A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92B266-48EE-4AA7-B20D-61AD61BB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B10803-D624-4742-B5DE-D87BD690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79B0A0-B758-4962-8E56-94A37DD6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EE658B-9167-4F75-A527-4CE963D1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13C368-AA06-4C7D-8DA6-D2DCEFE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31A71D-B6A6-4909-B7CE-67C013B8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D387EA-370F-4EEC-839A-CC411F2E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4F1C0C-66B2-444B-AF13-F69A3B0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56129C-A7E6-4EBF-AEDB-33F90B97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3E72-E599-41DE-A226-6895D06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3A7B74-0875-4F7C-8C55-906D05A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35B686-5C10-475F-AF72-631BA51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4D57F9-D37E-4F6F-A5CB-198B1603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D2ABD5-D752-4A77-83A3-E7117176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D6442B-4D62-463B-BAD1-E7B8B866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A0C79E-94E6-412A-A815-E6ED2EFC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6065AB-03E5-4739-BDC3-66BB3EEA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EB3008-C4D0-478B-904A-0DA282E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7FE4EA-FA35-4E21-A55A-8245B495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9F2B37-BAD6-4D09-AB53-7F29B37E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25D5-A727-4A2F-8ACC-EF799CA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2B93A8-BBD7-4BFD-965F-78B446C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CF0E04-FAC8-40D3-A75B-17FE0B93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9EA514-D79C-4AD9-BF6B-144B8CE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44B717-FDDF-49DA-8EE1-BFDA64C8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840257-6972-4ECA-8FCF-321AB2E9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F22171-698A-45DE-B255-A0A5D0E4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0FAD4D-FBFE-4935-B630-C0AB2A86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798429-739A-4D11-A8D4-798F1B9F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EC6D05-F8A7-4F9A-A4A6-185167AD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861F82-8CC0-4F86-854C-5FC972E1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BA34-1899-4D52-BFB1-6A1A2502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E66282-B4D7-41FE-A083-963430A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8C87C4-85DE-40F3-95ED-3F3F62B2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C9C8DE-B15F-4A0F-8E28-BDB9F8EC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4DC0EB-D7D9-4922-8EDC-D9D1C10C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ED2634-10FA-487F-A4C4-551BF94E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F5EEF1-8271-4972-B9AB-33FC23F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D6C613-A3D4-4184-BA51-5816F455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471846-C1F6-47FE-8F21-1765F4F1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589C5D-3C4F-4B28-8055-935BE45B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98914A-8D56-4404-991D-EC66B31F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8407B-571E-48F6-94C7-DC05D876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A7D334-1B80-41B4-95CE-02CBE1DC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E7E115-40C2-4CE7-90CB-FE185285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698DAB-7C52-40A4-BE17-CFA2DFBB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DE9EDC-E3A8-4087-AFD7-63FE809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036581-C5A2-480F-B4C8-ED537790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C3FEEF-B04B-4F66-9845-1FB48E5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C91E9B-4E6E-4291-9334-719843E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FD1DC1-FF08-4DF4-BFE1-72CAE73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C116DB-4FFA-4EA0-8D47-EEE994D1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F41F57-1C21-453C-BA2B-A6BF51B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4EFD-85F5-436F-8DA2-AEF3479D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034B33-E731-446C-88B5-5D4424A4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76E6F6-29FE-4BC5-A246-FCC109DD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9FEC22-3362-4B5E-B40B-520F8C0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C6594D-5684-4A6E-9B97-67B203FC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1B5A13-4393-4E8B-A396-9D559B4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FEB0A7-A8FF-43A7-A942-8FC9A58A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650936-4432-48A3-9B1A-DF8E2AC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467C95-57F5-438E-859A-09DC797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9F7F8D-FC89-4514-AD7D-779D5BE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AAD96E-90E6-44A2-8EA0-D1C6B34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CFBB0-DB44-46D0-A544-39A30151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842065-FF20-42A6-9BD6-0045471B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5F3D61-D2A2-4369-9514-DA9B9D98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CA413B-0A2A-4219-B564-4712E760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9A52-85C8-49F9-9D05-F9DE7806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54E6-9F0F-47FA-8B15-DF16D59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2F0-C0B6-4600-8E9B-77BBABE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C087-2B53-4ADE-890F-4F88C16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4ED7-C66A-4550-A394-C1FAF73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290F-22B5-403F-B68E-63DAC8DE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50E79-1C69-4812-B719-6BEC5CE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6A59-3448-44F7-8A28-7C1138A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CCD9-E292-492B-80CE-C8ECEBC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3E0D1-7271-4C23-8FD6-EA730DC6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2C27-97BF-4D7A-B33D-DDCE9272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1548-0CBB-4448-86C1-E7B368B5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18FC-4990-4554-B9EE-9581342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705-CD47-4A56-B3BC-17258E9A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7B26F-126E-4230-BA4C-D11D80AB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92752-44CD-459E-86A2-99647B2C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8BA4-377A-4E72-85B4-D00F584F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C3018-BFBA-43C5-B6C4-9388A6CF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9FA79-AA25-41C0-8970-D5B805F3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B873-1ECE-4953-9DAD-99DA89B4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C59A0-20CA-4124-9A3A-7DD68E5E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0EA1-F30D-46F9-A13C-B5312926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2BD0-FBEA-4D49-8636-E9CB22E5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E0DD-BBC1-4ADF-A9CA-9BAEDE5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777-85A7-4C99-9D7E-66FE73F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AEA8-9406-44C6-A679-204C0E0D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A87E-DCAF-4AED-BC60-1D527563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67A3-75B4-4949-9657-C6296F9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6C57-1093-47C0-8D23-C1D5427E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BE2C-E7D6-47CD-9E85-753FBE15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AA3D4-A833-4140-9060-C78D4C48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C31A-E499-4C19-A0B6-CC4E74C0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9968-BCB2-4D58-B06A-6F17C1A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B35C-A5E4-4EC7-A825-7FC7158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16F3-5DED-476D-ACF9-F1AEB00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E08-C77E-4CBA-BE6C-8BDA2D7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2ED7-43FD-490C-85AF-5C451B9C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FFDDA-A879-418A-BBAF-FBABF23D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F1F9-52C1-4023-909C-5580E866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54D5-8C42-439D-801A-84D165FB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5F796-BD1D-4DB3-8684-A2BD9522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0CD9-91D6-418C-BCE0-91CAB8F4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F7FF-A742-483F-B75E-92048277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314D7-2572-4463-A5D4-EA21255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505FB-888E-448E-AD65-52B213AA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C509-8A22-4C82-8F8B-015022E1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F43-E9FE-4E6D-99F1-3233F7D7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6FF7-7A92-4273-8968-4FBA61C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E4516-3955-4473-B3A1-9875AFD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73151-01C3-4B83-BDC3-D2462F36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7B1A5-179F-4C35-A22C-D2E155BA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649CA-3707-4856-A886-C7A89A0D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7215-94B6-4223-98B8-D97BB1DC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8E9F-DC63-44E5-8F10-DA65C18E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3ABD-9043-41FF-B0A0-9486878D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A7F8-32B8-4F16-812A-78DD51E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8AB31-50BA-4730-974D-91E2F0F7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2E2-329A-4FA6-85BD-AC5E70E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DC5CA-2099-49DA-AD41-53B0642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4FA51-0F96-4C37-ACDA-5FF48EE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733B-B43E-4618-99D8-AA17FC85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0B22E-C3D7-47A0-84FE-5A17CB2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DB452-A25D-4F3A-9072-0E2F9C3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836F-7960-4286-AE54-DADBCF49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B827-00F4-4927-8FD3-2C554119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51F1-DFE0-44A1-B77C-7B15D01F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3B587-76F7-479A-84A3-5B5A52C0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9B94F-6E5C-4B90-B23E-733F2533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CE4-6638-4A68-86F5-4DC71E1B1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19CF-A531-4ABB-A9A1-7E42E463D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EB74-8554-4378-9666-490C966424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DD8A-D225-49D3-9506-04DD60318E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B32-F339-4DF5-B46F-C4200B5C8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ADE6-41C9-47AF-BE06-FC1B26227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8B44-DD2D-41F2-894F-03C2F7C9C5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BE22-E476-46EA-AE19-C75EFD559F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B0B4-497B-456C-97B0-C10A38536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2283-5A4C-463E-BDED-08582021DE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BFB8-87F3-40E5-8BAB-052C6BDC2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370-521C-418D-9959-899C5D9A1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BDF-6D46-491B-A7CF-9B4D7DC03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052-0529-466E-B53B-C6D8B43E00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9C8B-25D4-4203-A7AB-D69DD7868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897-EEDD-4F4F-89D7-A5520E38F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00E6-88DB-4D5B-9295-BCABBC7A8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810-30B7-4D24-B613-04A7ACD0A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2CAE-7780-43C4-84F4-F3D5E7F71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C7F-0383-41F3-8AB8-06606580E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DBB3-153C-4027-93D6-306626BE4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4129-1613-40D4-A84B-9C09EA653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EB85-814E-45AB-9D56-B6AF20488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6B8E-4F6A-4108-9D9A-3B2835CBFF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983A-C3E4-486D-A7AA-18895A15C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48C-069F-4160-8CC0-910DCEDA5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4F8-ABC7-4C42-87E9-518A102E7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CAA-D392-4999-960D-75877AAEA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B51-D7B6-45A4-8682-0BB1D6A345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35B0-1871-4080-8C95-C5B1BEC56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A23-B9BD-43FF-B9A7-64D93BF15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0D4-9242-4393-B302-9E373CFF4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E0FA-5C13-45C0-A2D3-F1DA137C7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64E8-C992-4381-B4A5-42D6232FB7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6CA8-F697-41A8-9683-A29DEA560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855D-C5A3-4CDC-A80B-A6EEF2E54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D6D2-DDB9-437C-B74E-540507BA9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1CD6-8FD7-483A-97AE-B0AD8A329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7CB-6282-452A-84A6-7CBFC6C8A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6AB-F33B-4BEC-8007-327EF0878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835F-08C6-43EB-9C31-11C1BB895D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58DA-1B05-433B-8598-C12C6BF96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6DD1-0ADB-455C-8E5B-D9ED6E9EC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7F74-226B-4CF4-9D6D-0CA8F8D29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CAA-21BB-41D6-87DB-A20C5BE774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9B4-CFAC-4952-9B02-D45D98637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6587-CBF3-4B99-9073-6EF7558571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57E9-AEB0-45ED-9F44-C8D9BD94A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09D-9DC5-45FF-9097-0CC6AF85AF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1B21-10B1-4B52-BFEA-E3BF7CD254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429080" cy="7333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70866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2185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105760" cy="522000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21858"/>
          <p:cNvSpPr/>
          <p:nvPr/>
        </p:nvSpPr>
        <p:spPr>
          <a:xfrm>
            <a:off x="5160960" y="1266840"/>
            <a:ext cx="1427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21859"/>
          <p:cNvSpPr/>
          <p:nvPr/>
        </p:nvSpPr>
        <p:spPr>
          <a:xfrm>
            <a:off x="4627440" y="2346480"/>
            <a:ext cx="1024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21860"/>
          <p:cNvSpPr/>
          <p:nvPr/>
        </p:nvSpPr>
        <p:spPr>
          <a:xfrm>
            <a:off x="3776760" y="2905200"/>
            <a:ext cx="41799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21861"/>
          <p:cNvSpPr/>
          <p:nvPr/>
        </p:nvSpPr>
        <p:spPr>
          <a:xfrm>
            <a:off x="7319880" y="3781440"/>
            <a:ext cx="1024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21862"/>
          <p:cNvSpPr/>
          <p:nvPr/>
        </p:nvSpPr>
        <p:spPr>
          <a:xfrm>
            <a:off x="1249200" y="4327560"/>
            <a:ext cx="61311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1863"/>
          <p:cNvSpPr/>
          <p:nvPr/>
        </p:nvSpPr>
        <p:spPr>
          <a:xfrm>
            <a:off x="1122480" y="5394240"/>
            <a:ext cx="102384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1864"/>
          <p:cNvSpPr/>
          <p:nvPr/>
        </p:nvSpPr>
        <p:spPr>
          <a:xfrm>
            <a:off x="7535880" y="5369040"/>
            <a:ext cx="1023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2083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077320" cy="264816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20834"/>
          <p:cNvSpPr/>
          <p:nvPr/>
        </p:nvSpPr>
        <p:spPr>
          <a:xfrm>
            <a:off x="3408480" y="2562120"/>
            <a:ext cx="50385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20835"/>
          <p:cNvSpPr/>
          <p:nvPr/>
        </p:nvSpPr>
        <p:spPr>
          <a:xfrm>
            <a:off x="1262160" y="3057480"/>
            <a:ext cx="12952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20836"/>
          <p:cNvSpPr/>
          <p:nvPr/>
        </p:nvSpPr>
        <p:spPr>
          <a:xfrm>
            <a:off x="3395520" y="3565440"/>
            <a:ext cx="49215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20837"/>
          <p:cNvSpPr/>
          <p:nvPr/>
        </p:nvSpPr>
        <p:spPr>
          <a:xfrm>
            <a:off x="1287360" y="4137120"/>
            <a:ext cx="12956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9809" descr=""/>
          <p:cNvPicPr/>
          <p:nvPr/>
        </p:nvPicPr>
        <p:blipFill>
          <a:blip r:embed="rId1"/>
          <a:stretch/>
        </p:blipFill>
        <p:spPr>
          <a:xfrm>
            <a:off x="438120" y="1747800"/>
            <a:ext cx="8267760" cy="3362400"/>
          </a:xfrm>
          <a:prstGeom prst="rect">
            <a:avLst/>
          </a:prstGeom>
          <a:ln w="0">
            <a:noFill/>
          </a:ln>
        </p:spPr>
      </p:pic>
      <p:sp>
        <p:nvSpPr>
          <p:cNvPr id="1496" name="矩形 119810"/>
          <p:cNvSpPr/>
          <p:nvPr/>
        </p:nvSpPr>
        <p:spPr>
          <a:xfrm>
            <a:off x="5452920" y="329868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1878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05920" cy="885960"/>
          </a:xfrm>
          <a:prstGeom prst="rect">
            <a:avLst/>
          </a:prstGeom>
          <a:ln w="0">
            <a:noFill/>
          </a:ln>
        </p:spPr>
      </p:pic>
      <p:pic>
        <p:nvPicPr>
          <p:cNvPr id="1498" name="图片 118786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5476680" cy="194328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118787" descr=""/>
          <p:cNvPicPr/>
          <p:nvPr/>
        </p:nvPicPr>
        <p:blipFill>
          <a:blip r:embed="rId3"/>
          <a:stretch/>
        </p:blipFill>
        <p:spPr>
          <a:xfrm>
            <a:off x="6659640" y="2708280"/>
            <a:ext cx="2066760" cy="230508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8788"/>
          <p:cNvSpPr/>
          <p:nvPr/>
        </p:nvSpPr>
        <p:spPr>
          <a:xfrm>
            <a:off x="7885080" y="184464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7761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067440" cy="88596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17762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7800840" cy="411480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17763" descr=""/>
          <p:cNvPicPr/>
          <p:nvPr/>
        </p:nvPicPr>
        <p:blipFill>
          <a:blip r:embed="rId3"/>
          <a:stretch/>
        </p:blipFill>
        <p:spPr>
          <a:xfrm>
            <a:off x="7164360" y="1700280"/>
            <a:ext cx="1419120" cy="61920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17764"/>
          <p:cNvSpPr/>
          <p:nvPr/>
        </p:nvSpPr>
        <p:spPr>
          <a:xfrm>
            <a:off x="7667640" y="177336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16737" descr=""/>
          <p:cNvPicPr/>
          <p:nvPr/>
        </p:nvPicPr>
        <p:blipFill>
          <a:blip r:embed="rId1"/>
          <a:stretch/>
        </p:blipFill>
        <p:spPr>
          <a:xfrm>
            <a:off x="433440" y="1585800"/>
            <a:ext cx="8277120" cy="368640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16738"/>
          <p:cNvSpPr/>
          <p:nvPr/>
        </p:nvSpPr>
        <p:spPr>
          <a:xfrm>
            <a:off x="7667640" y="249228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1571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4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14689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389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13665" descr=""/>
          <p:cNvPicPr/>
          <p:nvPr/>
        </p:nvPicPr>
        <p:blipFill>
          <a:blip r:embed="rId1"/>
          <a:stretch/>
        </p:blipFill>
        <p:spPr>
          <a:xfrm>
            <a:off x="504720" y="1333440"/>
            <a:ext cx="8134560" cy="4191120"/>
          </a:xfrm>
          <a:prstGeom prst="rect">
            <a:avLst/>
          </a:prstGeom>
          <a:ln w="0">
            <a:noFill/>
          </a:ln>
        </p:spPr>
      </p:pic>
      <p:sp>
        <p:nvSpPr>
          <p:cNvPr id="1510" name="矩形 113666"/>
          <p:cNvSpPr/>
          <p:nvPr/>
        </p:nvSpPr>
        <p:spPr>
          <a:xfrm>
            <a:off x="4830840" y="1774800"/>
            <a:ext cx="146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13667"/>
          <p:cNvSpPr/>
          <p:nvPr/>
        </p:nvSpPr>
        <p:spPr>
          <a:xfrm>
            <a:off x="3611520" y="2765520"/>
            <a:ext cx="4921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13668"/>
          <p:cNvSpPr/>
          <p:nvPr/>
        </p:nvSpPr>
        <p:spPr>
          <a:xfrm>
            <a:off x="1452600" y="3260880"/>
            <a:ext cx="146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13670"/>
          <p:cNvSpPr/>
          <p:nvPr/>
        </p:nvSpPr>
        <p:spPr>
          <a:xfrm>
            <a:off x="3014640" y="4213080"/>
            <a:ext cx="146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3671"/>
          <p:cNvSpPr/>
          <p:nvPr/>
        </p:nvSpPr>
        <p:spPr>
          <a:xfrm>
            <a:off x="2265480" y="4822920"/>
            <a:ext cx="54021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5" name="图片 112641" descr=""/>
          <p:cNvPicPr/>
          <p:nvPr/>
        </p:nvPicPr>
        <p:blipFill>
          <a:blip r:embed="rId1"/>
          <a:stretch/>
        </p:blipFill>
        <p:spPr>
          <a:xfrm>
            <a:off x="485640" y="1876320"/>
            <a:ext cx="8172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5954" descr=""/>
          <p:cNvPicPr/>
          <p:nvPr/>
        </p:nvPicPr>
        <p:blipFill>
          <a:blip r:embed="rId1"/>
          <a:stretch/>
        </p:blipFill>
        <p:spPr>
          <a:xfrm>
            <a:off x="600120" y="1081080"/>
            <a:ext cx="7943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图片 111617" descr=""/>
          <p:cNvPicPr/>
          <p:nvPr/>
        </p:nvPicPr>
        <p:blipFill>
          <a:blip r:embed="rId1"/>
          <a:stretch/>
        </p:blipFill>
        <p:spPr>
          <a:xfrm>
            <a:off x="476280" y="1819440"/>
            <a:ext cx="8191440" cy="3219120"/>
          </a:xfrm>
          <a:prstGeom prst="rect">
            <a:avLst/>
          </a:prstGeom>
          <a:ln w="0">
            <a:noFill/>
          </a:ln>
        </p:spPr>
      </p:pic>
      <p:sp>
        <p:nvSpPr>
          <p:cNvPr id="1517" name="矩形 111618"/>
          <p:cNvSpPr/>
          <p:nvPr/>
        </p:nvSpPr>
        <p:spPr>
          <a:xfrm>
            <a:off x="5275440" y="1901880"/>
            <a:ext cx="1168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11619"/>
          <p:cNvSpPr/>
          <p:nvPr/>
        </p:nvSpPr>
        <p:spPr>
          <a:xfrm>
            <a:off x="3103560" y="285444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11620"/>
          <p:cNvSpPr/>
          <p:nvPr/>
        </p:nvSpPr>
        <p:spPr>
          <a:xfrm>
            <a:off x="7650000" y="3527280"/>
            <a:ext cx="116856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111621"/>
          <p:cNvSpPr/>
          <p:nvPr/>
        </p:nvSpPr>
        <p:spPr>
          <a:xfrm>
            <a:off x="1503360" y="4048200"/>
            <a:ext cx="70293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111622"/>
          <p:cNvSpPr/>
          <p:nvPr/>
        </p:nvSpPr>
        <p:spPr>
          <a:xfrm>
            <a:off x="1300320" y="4581360"/>
            <a:ext cx="29113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2" name="图片 110593" descr=""/>
          <p:cNvPicPr/>
          <p:nvPr/>
        </p:nvPicPr>
        <p:blipFill>
          <a:blip r:embed="rId1"/>
          <a:stretch/>
        </p:blipFill>
        <p:spPr>
          <a:xfrm>
            <a:off x="495360" y="1695600"/>
            <a:ext cx="815328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图片 109569" descr=""/>
          <p:cNvPicPr/>
          <p:nvPr/>
        </p:nvPicPr>
        <p:blipFill>
          <a:blip r:embed="rId1"/>
          <a:stretch/>
        </p:blipFill>
        <p:spPr>
          <a:xfrm>
            <a:off x="619200" y="1309680"/>
            <a:ext cx="7905600" cy="4238640"/>
          </a:xfrm>
          <a:prstGeom prst="rect">
            <a:avLst/>
          </a:prstGeom>
          <a:ln w="0">
            <a:noFill/>
          </a:ln>
        </p:spPr>
      </p:pic>
      <p:sp>
        <p:nvSpPr>
          <p:cNvPr id="1524" name="矩形 109570"/>
          <p:cNvSpPr/>
          <p:nvPr/>
        </p:nvSpPr>
        <p:spPr>
          <a:xfrm>
            <a:off x="3014640" y="4734000"/>
            <a:ext cx="422136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108545" descr=""/>
          <p:cNvPicPr/>
          <p:nvPr/>
        </p:nvPicPr>
        <p:blipFill>
          <a:blip r:embed="rId1"/>
          <a:stretch/>
        </p:blipFill>
        <p:spPr>
          <a:xfrm>
            <a:off x="600120" y="1604880"/>
            <a:ext cx="7943760" cy="3648240"/>
          </a:xfrm>
          <a:prstGeom prst="rect">
            <a:avLst/>
          </a:prstGeom>
          <a:ln w="0">
            <a:noFill/>
          </a:ln>
        </p:spPr>
      </p:pic>
      <p:sp>
        <p:nvSpPr>
          <p:cNvPr id="1526" name="矩形 108546"/>
          <p:cNvSpPr/>
          <p:nvPr/>
        </p:nvSpPr>
        <p:spPr>
          <a:xfrm>
            <a:off x="1795320" y="2003400"/>
            <a:ext cx="5729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108547"/>
          <p:cNvSpPr/>
          <p:nvPr/>
        </p:nvSpPr>
        <p:spPr>
          <a:xfrm>
            <a:off x="3218040" y="3044880"/>
            <a:ext cx="57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108548"/>
          <p:cNvSpPr/>
          <p:nvPr/>
        </p:nvSpPr>
        <p:spPr>
          <a:xfrm>
            <a:off x="6799320" y="305748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108549"/>
          <p:cNvSpPr/>
          <p:nvPr/>
        </p:nvSpPr>
        <p:spPr>
          <a:xfrm>
            <a:off x="7802640" y="412416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108550"/>
          <p:cNvSpPr/>
          <p:nvPr/>
        </p:nvSpPr>
        <p:spPr>
          <a:xfrm>
            <a:off x="1541520" y="4670280"/>
            <a:ext cx="49021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107521" descr=""/>
          <p:cNvPicPr/>
          <p:nvPr/>
        </p:nvPicPr>
        <p:blipFill>
          <a:blip r:embed="rId1"/>
          <a:stretch/>
        </p:blipFill>
        <p:spPr>
          <a:xfrm>
            <a:off x="657360" y="1409760"/>
            <a:ext cx="7829280" cy="4038480"/>
          </a:xfrm>
          <a:prstGeom prst="rect">
            <a:avLst/>
          </a:prstGeom>
          <a:ln w="0">
            <a:noFill/>
          </a:ln>
        </p:spPr>
      </p:pic>
      <p:sp>
        <p:nvSpPr>
          <p:cNvPr id="1532" name="矩形 107522"/>
          <p:cNvSpPr/>
          <p:nvPr/>
        </p:nvSpPr>
        <p:spPr>
          <a:xfrm>
            <a:off x="3611520" y="1812960"/>
            <a:ext cx="5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106497" descr=""/>
          <p:cNvPicPr/>
          <p:nvPr/>
        </p:nvPicPr>
        <p:blipFill>
          <a:blip r:embed="rId1"/>
          <a:stretch/>
        </p:blipFill>
        <p:spPr>
          <a:xfrm>
            <a:off x="685800" y="2614680"/>
            <a:ext cx="7772400" cy="1628640"/>
          </a:xfrm>
          <a:prstGeom prst="rect">
            <a:avLst/>
          </a:prstGeom>
          <a:ln w="0">
            <a:noFill/>
          </a:ln>
        </p:spPr>
      </p:pic>
      <p:sp>
        <p:nvSpPr>
          <p:cNvPr id="1534" name="矩形 106498"/>
          <p:cNvSpPr/>
          <p:nvPr/>
        </p:nvSpPr>
        <p:spPr>
          <a:xfrm>
            <a:off x="1998720" y="3108240"/>
            <a:ext cx="638964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106499"/>
          <p:cNvSpPr/>
          <p:nvPr/>
        </p:nvSpPr>
        <p:spPr>
          <a:xfrm>
            <a:off x="1452600" y="3654360"/>
            <a:ext cx="376704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6977" descr=""/>
          <p:cNvPicPr/>
          <p:nvPr/>
        </p:nvPicPr>
        <p:blipFill>
          <a:blip r:embed="rId1"/>
          <a:stretch/>
        </p:blipFill>
        <p:spPr>
          <a:xfrm>
            <a:off x="666720" y="1685880"/>
            <a:ext cx="7810560" cy="34862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6978"/>
          <p:cNvSpPr/>
          <p:nvPr/>
        </p:nvSpPr>
        <p:spPr>
          <a:xfrm>
            <a:off x="1835280" y="2276640"/>
            <a:ext cx="20127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6979"/>
          <p:cNvSpPr/>
          <p:nvPr/>
        </p:nvSpPr>
        <p:spPr>
          <a:xfrm>
            <a:off x="1557360" y="3132000"/>
            <a:ext cx="207000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6980"/>
          <p:cNvSpPr/>
          <p:nvPr/>
        </p:nvSpPr>
        <p:spPr>
          <a:xfrm>
            <a:off x="1908000" y="3621240"/>
            <a:ext cx="19209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6981"/>
          <p:cNvSpPr/>
          <p:nvPr/>
        </p:nvSpPr>
        <p:spPr>
          <a:xfrm>
            <a:off x="1538280" y="4187880"/>
            <a:ext cx="23036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6982"/>
          <p:cNvSpPr/>
          <p:nvPr/>
        </p:nvSpPr>
        <p:spPr>
          <a:xfrm>
            <a:off x="1555920" y="4629240"/>
            <a:ext cx="2198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6984"/>
          <p:cNvSpPr/>
          <p:nvPr/>
        </p:nvSpPr>
        <p:spPr>
          <a:xfrm>
            <a:off x="3894120" y="2529000"/>
            <a:ext cx="100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6985"/>
          <p:cNvSpPr/>
          <p:nvPr/>
        </p:nvSpPr>
        <p:spPr>
          <a:xfrm>
            <a:off x="3932280" y="3125880"/>
            <a:ext cx="100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6987"/>
          <p:cNvSpPr/>
          <p:nvPr/>
        </p:nvSpPr>
        <p:spPr>
          <a:xfrm>
            <a:off x="3922560" y="3768840"/>
            <a:ext cx="10810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6988"/>
          <p:cNvSpPr/>
          <p:nvPr/>
        </p:nvSpPr>
        <p:spPr>
          <a:xfrm>
            <a:off x="3922560" y="4213080"/>
            <a:ext cx="108108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6989"/>
          <p:cNvSpPr/>
          <p:nvPr/>
        </p:nvSpPr>
        <p:spPr>
          <a:xfrm>
            <a:off x="5126040" y="2846520"/>
            <a:ext cx="13906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6990"/>
          <p:cNvSpPr/>
          <p:nvPr/>
        </p:nvSpPr>
        <p:spPr>
          <a:xfrm>
            <a:off x="5129280" y="3463920"/>
            <a:ext cx="1387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6991"/>
          <p:cNvSpPr/>
          <p:nvPr/>
        </p:nvSpPr>
        <p:spPr>
          <a:xfrm>
            <a:off x="5148360" y="3886200"/>
            <a:ext cx="1387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6992"/>
          <p:cNvSpPr/>
          <p:nvPr/>
        </p:nvSpPr>
        <p:spPr>
          <a:xfrm>
            <a:off x="6611760" y="2997360"/>
            <a:ext cx="17132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6993"/>
          <p:cNvSpPr/>
          <p:nvPr/>
        </p:nvSpPr>
        <p:spPr>
          <a:xfrm>
            <a:off x="6608880" y="3479760"/>
            <a:ext cx="166500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6994"/>
          <p:cNvSpPr/>
          <p:nvPr/>
        </p:nvSpPr>
        <p:spPr>
          <a:xfrm>
            <a:off x="6621480" y="3898800"/>
            <a:ext cx="166536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32097" descr=""/>
          <p:cNvPicPr/>
          <p:nvPr/>
        </p:nvPicPr>
        <p:blipFill>
          <a:blip r:embed="rId1"/>
          <a:stretch/>
        </p:blipFill>
        <p:spPr>
          <a:xfrm>
            <a:off x="762120" y="1538280"/>
            <a:ext cx="7619760" cy="378144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32099"/>
          <p:cNvSpPr/>
          <p:nvPr/>
        </p:nvSpPr>
        <p:spPr>
          <a:xfrm>
            <a:off x="1620720" y="4078440"/>
            <a:ext cx="10083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32100"/>
          <p:cNvSpPr/>
          <p:nvPr/>
        </p:nvSpPr>
        <p:spPr>
          <a:xfrm>
            <a:off x="3220920" y="4065480"/>
            <a:ext cx="15670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32101"/>
          <p:cNvSpPr/>
          <p:nvPr/>
        </p:nvSpPr>
        <p:spPr>
          <a:xfrm>
            <a:off x="5138640" y="3849840"/>
            <a:ext cx="5587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32102"/>
          <p:cNvSpPr/>
          <p:nvPr/>
        </p:nvSpPr>
        <p:spPr>
          <a:xfrm>
            <a:off x="6192720" y="3849840"/>
            <a:ext cx="3175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32103"/>
          <p:cNvSpPr/>
          <p:nvPr/>
        </p:nvSpPr>
        <p:spPr>
          <a:xfrm>
            <a:off x="5148360" y="4365720"/>
            <a:ext cx="13334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32104"/>
          <p:cNvSpPr/>
          <p:nvPr/>
        </p:nvSpPr>
        <p:spPr>
          <a:xfrm>
            <a:off x="6588000" y="4149720"/>
            <a:ext cx="1717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30050" descr=""/>
          <p:cNvPicPr/>
          <p:nvPr/>
        </p:nvPicPr>
        <p:blipFill>
          <a:blip r:embed="rId1"/>
          <a:stretch/>
        </p:blipFill>
        <p:spPr>
          <a:xfrm>
            <a:off x="776160" y="2209680"/>
            <a:ext cx="7591680" cy="24386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30051"/>
          <p:cNvSpPr/>
          <p:nvPr/>
        </p:nvSpPr>
        <p:spPr>
          <a:xfrm>
            <a:off x="2316240" y="2359080"/>
            <a:ext cx="1295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30052"/>
          <p:cNvSpPr/>
          <p:nvPr/>
        </p:nvSpPr>
        <p:spPr>
          <a:xfrm>
            <a:off x="2951280" y="2765520"/>
            <a:ext cx="7570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30053"/>
          <p:cNvSpPr/>
          <p:nvPr/>
        </p:nvSpPr>
        <p:spPr>
          <a:xfrm>
            <a:off x="1668600" y="4111560"/>
            <a:ext cx="1390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30054"/>
          <p:cNvSpPr/>
          <p:nvPr/>
        </p:nvSpPr>
        <p:spPr>
          <a:xfrm>
            <a:off x="7040520" y="2346480"/>
            <a:ext cx="12445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30055"/>
          <p:cNvSpPr/>
          <p:nvPr/>
        </p:nvSpPr>
        <p:spPr>
          <a:xfrm>
            <a:off x="6562800" y="2803680"/>
            <a:ext cx="509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30056"/>
          <p:cNvSpPr/>
          <p:nvPr/>
        </p:nvSpPr>
        <p:spPr>
          <a:xfrm>
            <a:off x="7155000" y="3235320"/>
            <a:ext cx="484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31073" descr=""/>
          <p:cNvPicPr/>
          <p:nvPr/>
        </p:nvPicPr>
        <p:blipFill>
          <a:blip r:embed="rId1"/>
          <a:stretch/>
        </p:blipFill>
        <p:spPr>
          <a:xfrm>
            <a:off x="728640" y="1747800"/>
            <a:ext cx="7686720" cy="33624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31074"/>
          <p:cNvSpPr/>
          <p:nvPr/>
        </p:nvSpPr>
        <p:spPr>
          <a:xfrm>
            <a:off x="2811600" y="3006720"/>
            <a:ext cx="8236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31075"/>
          <p:cNvSpPr/>
          <p:nvPr/>
        </p:nvSpPr>
        <p:spPr>
          <a:xfrm>
            <a:off x="1795320" y="3425760"/>
            <a:ext cx="1192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31076"/>
          <p:cNvSpPr/>
          <p:nvPr/>
        </p:nvSpPr>
        <p:spPr>
          <a:xfrm>
            <a:off x="3840120" y="3413160"/>
            <a:ext cx="824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31077"/>
          <p:cNvSpPr/>
          <p:nvPr/>
        </p:nvSpPr>
        <p:spPr>
          <a:xfrm>
            <a:off x="7510320" y="2549520"/>
            <a:ext cx="773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31078"/>
          <p:cNvSpPr/>
          <p:nvPr/>
        </p:nvSpPr>
        <p:spPr>
          <a:xfrm>
            <a:off x="6595920" y="2981160"/>
            <a:ext cx="128916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31079"/>
          <p:cNvSpPr/>
          <p:nvPr/>
        </p:nvSpPr>
        <p:spPr>
          <a:xfrm>
            <a:off x="6697800" y="3870360"/>
            <a:ext cx="12888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24929" descr=""/>
          <p:cNvPicPr/>
          <p:nvPr/>
        </p:nvPicPr>
        <p:blipFill>
          <a:blip r:embed="rId1"/>
          <a:stretch/>
        </p:blipFill>
        <p:spPr>
          <a:xfrm>
            <a:off x="527040" y="1781280"/>
            <a:ext cx="8248680" cy="337176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24930" descr=""/>
          <p:cNvPicPr/>
          <p:nvPr/>
        </p:nvPicPr>
        <p:blipFill>
          <a:blip r:embed="rId2"/>
          <a:stretch/>
        </p:blipFill>
        <p:spPr>
          <a:xfrm>
            <a:off x="814320" y="5021280"/>
            <a:ext cx="8001000" cy="111456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24931" descr=""/>
          <p:cNvPicPr/>
          <p:nvPr/>
        </p:nvPicPr>
        <p:blipFill>
          <a:blip r:embed="rId3"/>
          <a:stretch/>
        </p:blipFill>
        <p:spPr>
          <a:xfrm>
            <a:off x="611280" y="866880"/>
            <a:ext cx="7943760" cy="69516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24932"/>
          <p:cNvSpPr/>
          <p:nvPr/>
        </p:nvSpPr>
        <p:spPr>
          <a:xfrm>
            <a:off x="2900520" y="2435400"/>
            <a:ext cx="129528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24933"/>
          <p:cNvSpPr/>
          <p:nvPr/>
        </p:nvSpPr>
        <p:spPr>
          <a:xfrm>
            <a:off x="2062080" y="3502080"/>
            <a:ext cx="39499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23905" descr=""/>
          <p:cNvPicPr/>
          <p:nvPr/>
        </p:nvPicPr>
        <p:blipFill>
          <a:blip r:embed="rId1"/>
          <a:stretch/>
        </p:blipFill>
        <p:spPr>
          <a:xfrm>
            <a:off x="576360" y="890640"/>
            <a:ext cx="7991280" cy="50767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23906"/>
          <p:cNvSpPr/>
          <p:nvPr/>
        </p:nvSpPr>
        <p:spPr>
          <a:xfrm>
            <a:off x="6735600" y="3959280"/>
            <a:ext cx="648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23907"/>
          <p:cNvSpPr/>
          <p:nvPr/>
        </p:nvSpPr>
        <p:spPr>
          <a:xfrm>
            <a:off x="7383600" y="4987800"/>
            <a:ext cx="114912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23908"/>
          <p:cNvSpPr/>
          <p:nvPr/>
        </p:nvSpPr>
        <p:spPr>
          <a:xfrm>
            <a:off x="969840" y="5521320"/>
            <a:ext cx="52578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22881" descr=""/>
          <p:cNvPicPr/>
          <p:nvPr/>
        </p:nvPicPr>
        <p:blipFill>
          <a:blip r:embed="rId1"/>
          <a:stretch/>
        </p:blipFill>
        <p:spPr>
          <a:xfrm>
            <a:off x="609480" y="1281240"/>
            <a:ext cx="79250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8:40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